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7EA-A966-48D9-9792-54715846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7AE-A8E2-4744-8AAA-69143ED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BF3-62AE-4843-BA59-3FD23443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7DB-3CD1-41D6-B3AA-DB05B79A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091-DCED-464F-BE5C-7C855F75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DB6-7709-48A5-93DF-7EAACD0B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463-8CF2-446F-8B99-3067E538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D73-93BD-4EEA-A676-963EA778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A7E-7FD5-4A8E-90B1-2E459F1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80A-E0BF-462F-B71A-7320430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F28-F1B2-4D87-B1A5-8084159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4CC-F2E8-429B-8321-BF4761D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3E1-AB35-4484-A004-DCEE9F77F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paño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king about meal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rid—eating h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ayuno- coffee, chocol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urro, roll with j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almuerzo- (los onces)   11a.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elet, sausage, tomato, bread,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fish, squ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comida- 2 p.m. main meal of the day, sies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pas-salad or so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sh/meat, flan or dessert fru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dessert- coffee/wine with m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rid- eating hour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p.m./4p.m. back to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ienda-6p.m. mid day sn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kies, pastries, coffee (unless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ny is com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ish work-7:30p.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a-10p.m.-12p.m.  Light m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up, omelette, vegetables, fish,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ange/ban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teo-tapas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omida principal del d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ypical Spanish breakfast consists of hot chocolate with churros (a special type of doughnut).  This, may be eaten in a churrería (a doughnut shop) or at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anish omelette is made up of potatoes and eggs not corn like the Mexican tortil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omida principal del día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uerzo=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meal of the day is large, normally 3 or 4 servings.  Soup, paella or fish is common for the first serving.  A meat is commonly served for the second serving.  Vegetables or salad comes after the meat.  A typical dessert is flan, (and egg custard) or fr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3:05:19Z</dcterms:created>
  <dc:creator>Maple Lake</dc:creator>
  <dc:description/>
  <dc:language>en-US</dc:language>
  <cp:lastModifiedBy> </cp:lastModifiedBy>
  <dcterms:modified xsi:type="dcterms:W3CDTF">2011-04-26T19:01:44Z</dcterms:modified>
  <cp:revision>175</cp:revision>
  <dc:subject/>
  <dc:title>Español  1</dc:title>
</cp:coreProperties>
</file>